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glass.wav" ContentType="audio/x-wav"/>
  <Override PartName="/ppt/media/whoosh.wav" ContentType="audio/x-wav"/>
  <Override PartName="/ppt/media/image2.gif" ContentType="image/gif"/>
  <Override PartName="/ppt/media/image9.gif" ContentType="image/gif"/>
  <Override PartName="/ppt/media/image8.gif" ContentType="image/gif"/>
  <Override PartName="/ppt/media/image7.gif" ContentType="image/gif"/>
  <Override PartName="/ppt/media/image6.gif" ContentType="image/gif"/>
  <Override PartName="/ppt/media/image10.gif" ContentType="image/gif"/>
  <Override PartName="/ppt/media/image13.png" ContentType="image/png"/>
  <Override PartName="/ppt/media/image12.png" ContentType="image/png"/>
  <Override PartName="/ppt/media/image3.gif" ContentType="image/gif"/>
  <Override PartName="/ppt/media/image5.gif" ContentType="image/gif"/>
  <Override PartName="/ppt/media/image14.png" ContentType="image/png"/>
  <Override PartName="/ppt/media/image11.gif" ContentType="image/gif"/>
  <Override PartName="/ppt/media/driveby.wav" ContentType="audio/x-wav"/>
  <Override PartName="/ppt/media/image15.png" ContentType="image/png"/>
  <Override PartName="/ppt/media/drumroll.wav" ContentType="audio/x-wav"/>
  <Override PartName="/ppt/media/image1.png" ContentType="image/png"/>
  <Override PartName="/ppt/media/image4.gif" ContentType="image/gif"/>
  <Override PartName="/ppt/media/ricochet.wav" ContentType="audio/x-wav"/>
  <Override PartName="/ppt/media/chimes.wav" ContentType="audio/x-wav"/>
  <Override PartName="/ppt/media/clap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-144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9360" y="701280"/>
            <a:ext cx="4626000" cy="346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44D2D-63AE-490B-9069-41DD2B7AFC4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comparison, in a stack adds and removes are to/from the same end of he li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FIFO queue. Some real life queues are not FIFO. Removal from a queue may be done by priority rather than by arrival time order. For example, loading into a plane– first class, frequent fliers, by rows from back of plane rather than by order in which you arrive at the departure g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CBC4-EB0F-459F-891A-8B20473FD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5575-5016-4B8C-944A-D37D76F92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F168-B741-423B-9144-6AA9C10F4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5279-27D3-41B8-AB58-D97548E6C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72A9-3B9E-464B-A717-8EA80C569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B1E1-B3E9-47F6-9FC3-1685FCCED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4D46-086A-4958-A043-92D939182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DA8F-B6CC-496B-92C1-B2792516F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FC64-1617-44C0-B4CA-D40C0210A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98AB-D6D5-4122-9F38-F31B982C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C00D-6A0C-4A20-93F6-6E668A58B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6C3C-D5A1-4667-864D-6868BC5C5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01C39-81A1-4649-A52C-7AFF33DEDD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9.gif"/><Relationship Id="rId7" Type="http://schemas.openxmlformats.org/officeDocument/2006/relationships/image" Target="../media/image10.gif"/><Relationship Id="rId8" Type="http://schemas.openxmlformats.org/officeDocument/2006/relationships/audio" Target="../media/whoosh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glass.wav"/><Relationship Id="rId12" Type="http://schemas.openxmlformats.org/officeDocument/2006/relationships/audio" Target="../media/drumroll.wav"/><Relationship Id="rId13" Type="http://schemas.openxmlformats.org/officeDocument/2006/relationships/audio" Target="../media/clap.wav"/><Relationship Id="rId14" Type="http://schemas.openxmlformats.org/officeDocument/2006/relationships/audio" Target="../media/driveby.wav"/><Relationship Id="rId1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9.gif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11.gif"/><Relationship Id="rId7" Type="http://schemas.openxmlformats.org/officeDocument/2006/relationships/audio" Target="../media/ricochet.wav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Red (Queue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124080" y="3962520"/>
            <a:ext cx="278136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mplementacija red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868680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Implementacija pomoću niz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oristim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D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iz za predstavljanje red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Elementi se smještaju redom u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queue[0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queue[1]</a:t>
            </a:r>
            <a:r>
              <a:rPr b="0" lang="sr-Latn-CS" sz="2800" spc="-1" strike="noStrike">
                <a:solidFill>
                  <a:srgbClr val="ff0033"/>
                </a:solidFill>
                <a:latin typeface="Times New Roman"/>
              </a:rPr>
              <a:t>, it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Implementacija pomoću niz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teQ()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riš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queue[0]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i pomjera ostale elemente za jednu poziciju ulije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f0033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33"/>
                </a:solidFill>
                <a:latin typeface="Times New Roman"/>
              </a:rPr>
              <a:t>Vrijeme je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O(</a:t>
            </a:r>
            <a:r>
              <a:rPr b="0" lang="sr-Latn-CS" sz="2400" spc="-1" strike="noStrike">
                <a:solidFill>
                  <a:srgbClr val="ff0033"/>
                </a:solidFill>
                <a:latin typeface="Times New Roman"/>
              </a:rPr>
              <a:t>veličina reda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Q(x)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ko ima prostora, dodaj lement na desni kra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f0033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33"/>
                </a:solidFill>
                <a:latin typeface="Times New Roman"/>
              </a:rPr>
              <a:t>Vrijeme je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O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143000" y="914400"/>
            <a:ext cx="6845040" cy="1067760"/>
            <a:chOff x="1143000" y="914400"/>
            <a:chExt cx="6845040" cy="1067760"/>
          </a:xfrm>
        </p:grpSpPr>
        <p:grpSp>
          <p:nvGrpSpPr>
            <p:cNvPr id="128" name=""/>
            <p:cNvGrpSpPr/>
            <p:nvPr/>
          </p:nvGrpSpPr>
          <p:grpSpPr>
            <a:xfrm>
              <a:off x="1143000" y="914400"/>
              <a:ext cx="6845040" cy="1067760"/>
              <a:chOff x="1143000" y="914400"/>
              <a:chExt cx="6845040" cy="1067760"/>
            </a:xfrm>
          </p:grpSpPr>
          <p:sp>
            <p:nvSpPr>
              <p:cNvPr id="129" name=""/>
              <p:cNvSpPr/>
              <p:nvPr/>
            </p:nvSpPr>
            <p:spPr>
              <a:xfrm>
                <a:off x="1143000" y="936360"/>
                <a:ext cx="6845040" cy="52092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5937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0509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5081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9653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4225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8797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3369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941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2513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7085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1657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6229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0801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5373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272960" y="91440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272600" y="1523880"/>
                <a:ext cx="337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729800" y="1523880"/>
                <a:ext cx="337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187000" y="1523880"/>
                <a:ext cx="337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720520" y="1523880"/>
                <a:ext cx="337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101400" y="1523880"/>
                <a:ext cx="337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558600" y="1523880"/>
                <a:ext cx="337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939840" y="1523880"/>
                <a:ext cx="337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1218600" y="914400"/>
              <a:ext cx="320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76160" y="91440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133000" y="914400"/>
              <a:ext cx="320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590560" y="91440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47400" y="914400"/>
              <a:ext cx="320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Brisanje i dodavanje za 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O(1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86868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a bi se operacije brisanja i dodavanja izvršile za vrijem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1)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koristimo cirkularnu (kružnu) reprezentacij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ir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ular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ni niz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Opet koristim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D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niz za </a:t>
            </a:r>
            <a:r>
              <a:rPr b="0" lang="sr-Latn-CS" sz="3200" spc="-1" strike="noStrike">
                <a:solidFill>
                  <a:srgbClr val="ff0033"/>
                </a:solidFill>
                <a:latin typeface="Times New Roman"/>
              </a:rPr>
              <a:t>r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752480" y="2514600"/>
            <a:ext cx="3422880" cy="458280"/>
            <a:chOff x="1752480" y="2514600"/>
            <a:chExt cx="3422880" cy="458280"/>
          </a:xfrm>
        </p:grpSpPr>
        <p:sp>
          <p:nvSpPr>
            <p:cNvPr id="162" name=""/>
            <p:cNvSpPr/>
            <p:nvPr/>
          </p:nvSpPr>
          <p:spPr>
            <a:xfrm>
              <a:off x="3359160" y="2597040"/>
              <a:ext cx="291960" cy="2923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64080" y="2597040"/>
              <a:ext cx="291960" cy="2923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968640" y="2597040"/>
              <a:ext cx="292320" cy="2923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273560" y="2597040"/>
              <a:ext cx="291960" cy="2923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78480" y="2597040"/>
              <a:ext cx="291960" cy="2923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883040" y="2597040"/>
              <a:ext cx="292320" cy="2923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752480" y="2514600"/>
              <a:ext cx="1295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queue[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685800" y="32767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r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lar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ni pogled na ni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2666880" y="4038480"/>
            <a:ext cx="3581640" cy="2592000"/>
            <a:chOff x="2666880" y="4038480"/>
            <a:chExt cx="3581640" cy="2592000"/>
          </a:xfrm>
        </p:grpSpPr>
        <p:sp>
          <p:nvSpPr>
            <p:cNvPr id="171" name=""/>
            <p:cNvSpPr/>
            <p:nvPr/>
          </p:nvSpPr>
          <p:spPr>
            <a:xfrm>
              <a:off x="3206880" y="4273560"/>
              <a:ext cx="2197080" cy="21970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816360" y="4959360"/>
              <a:ext cx="977760" cy="977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267080" y="4267080"/>
              <a:ext cx="0" cy="68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267080" y="5943600"/>
              <a:ext cx="0" cy="533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352680" y="4800600"/>
              <a:ext cx="53352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3352680" y="5638680"/>
              <a:ext cx="5335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4724280" y="4876920"/>
              <a:ext cx="60984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724280" y="5715000"/>
              <a:ext cx="45720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24080" y="61722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0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666880" y="52578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1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200400" y="403848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2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920" y="403848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3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10080" y="52578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4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920" y="617220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5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ir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ular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ni niz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12952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Moguć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figur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cija sa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3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38280" y="2666880"/>
            <a:ext cx="3581640" cy="2592000"/>
            <a:chOff x="2438280" y="2666880"/>
            <a:chExt cx="3581640" cy="2592000"/>
          </a:xfrm>
        </p:grpSpPr>
        <p:grpSp>
          <p:nvGrpSpPr>
            <p:cNvPr id="188" name=""/>
            <p:cNvGrpSpPr/>
            <p:nvPr/>
          </p:nvGrpSpPr>
          <p:grpSpPr>
            <a:xfrm>
              <a:off x="2438280" y="2666880"/>
              <a:ext cx="3581640" cy="2592000"/>
              <a:chOff x="2438280" y="2666880"/>
              <a:chExt cx="3581640" cy="2592000"/>
            </a:xfrm>
          </p:grpSpPr>
          <p:sp>
            <p:nvSpPr>
              <p:cNvPr id="189" name=""/>
              <p:cNvSpPr/>
              <p:nvPr/>
            </p:nvSpPr>
            <p:spPr>
              <a:xfrm>
                <a:off x="2978280" y="2901960"/>
                <a:ext cx="2197080" cy="2197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587760" y="3587760"/>
                <a:ext cx="977760" cy="977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038480" y="2895480"/>
                <a:ext cx="0" cy="685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038480" y="4572000"/>
                <a:ext cx="0" cy="5335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124080" y="3429000"/>
                <a:ext cx="53352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>
                <a:off x="3124080" y="4267080"/>
                <a:ext cx="53352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4495680" y="3505320"/>
                <a:ext cx="60984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495680" y="4343400"/>
                <a:ext cx="45720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895480" y="480060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0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438280" y="388620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1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971800" y="266688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2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648320" y="266688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3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181480" y="388620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4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648320" y="48006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5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3" name=""/>
            <p:cNvSpPr/>
            <p:nvPr/>
          </p:nvSpPr>
          <p:spPr>
            <a:xfrm>
              <a:off x="3429000" y="312408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267080" y="3124080"/>
              <a:ext cx="609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648320" y="380988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ir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ular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ni niz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" y="12952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Druga moguć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figur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cija sa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3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2438280" y="2666880"/>
            <a:ext cx="3581640" cy="2592000"/>
            <a:chOff x="2438280" y="2666880"/>
            <a:chExt cx="3581640" cy="2592000"/>
          </a:xfrm>
        </p:grpSpPr>
        <p:grpSp>
          <p:nvGrpSpPr>
            <p:cNvPr id="209" name=""/>
            <p:cNvGrpSpPr/>
            <p:nvPr/>
          </p:nvGrpSpPr>
          <p:grpSpPr>
            <a:xfrm>
              <a:off x="2438280" y="2666880"/>
              <a:ext cx="3581640" cy="2592000"/>
              <a:chOff x="2438280" y="2666880"/>
              <a:chExt cx="3581640" cy="2592000"/>
            </a:xfrm>
          </p:grpSpPr>
          <p:sp>
            <p:nvSpPr>
              <p:cNvPr id="210" name=""/>
              <p:cNvSpPr/>
              <p:nvPr/>
            </p:nvSpPr>
            <p:spPr>
              <a:xfrm>
                <a:off x="2978280" y="2901960"/>
                <a:ext cx="2197080" cy="2197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587760" y="3587760"/>
                <a:ext cx="977760" cy="977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038480" y="2895480"/>
                <a:ext cx="0" cy="685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038480" y="4572000"/>
                <a:ext cx="0" cy="5335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124080" y="3429000"/>
                <a:ext cx="53352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3124080" y="4267080"/>
                <a:ext cx="53352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4495680" y="3505320"/>
                <a:ext cx="60984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495680" y="4343400"/>
                <a:ext cx="45720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895480" y="480060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0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438280" y="388620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1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971800" y="266688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2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48320" y="266688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3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181480" y="388620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4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648320" y="48006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5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267080" y="4495680"/>
              <a:ext cx="609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05320" y="449568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048120" y="373392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ir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ular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ni niz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1295280"/>
            <a:ext cx="777240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oristimo cjelobroj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ront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front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je jednu poziciju suprotno kazaljki sata od prvog eleme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ear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aje pozicij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sljednje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lement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533520" y="4038480"/>
            <a:ext cx="3581280" cy="2591640"/>
            <a:chOff x="533520" y="4038480"/>
            <a:chExt cx="3581280" cy="2591640"/>
          </a:xfrm>
        </p:grpSpPr>
        <p:grpSp>
          <p:nvGrpSpPr>
            <p:cNvPr id="230" name=""/>
            <p:cNvGrpSpPr/>
            <p:nvPr/>
          </p:nvGrpSpPr>
          <p:grpSpPr>
            <a:xfrm>
              <a:off x="533520" y="4038480"/>
              <a:ext cx="3581280" cy="2591640"/>
              <a:chOff x="533520" y="4038480"/>
              <a:chExt cx="3581280" cy="2591640"/>
            </a:xfrm>
          </p:grpSpPr>
          <p:sp>
            <p:nvSpPr>
              <p:cNvPr id="231" name=""/>
              <p:cNvSpPr/>
              <p:nvPr/>
            </p:nvSpPr>
            <p:spPr>
              <a:xfrm>
                <a:off x="1073160" y="4273200"/>
                <a:ext cx="2197080" cy="2197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682640" y="4959000"/>
                <a:ext cx="978120" cy="978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133720" y="4267080"/>
                <a:ext cx="0" cy="685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133720" y="5943240"/>
                <a:ext cx="0" cy="5335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219320" y="4800240"/>
                <a:ext cx="533160" cy="381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>
                <a:off x="1218960" y="5638680"/>
                <a:ext cx="53316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V="1">
                <a:off x="2590920" y="4876200"/>
                <a:ext cx="60948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590920" y="5714640"/>
                <a:ext cx="45720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990720" y="617184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0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33520" y="525744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1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066680" y="403848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2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743200" y="403848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3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276720" y="525744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4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743200" y="617184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5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1523880" y="4495680"/>
              <a:ext cx="609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362320" y="449568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743200" y="518148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0" y="4800600"/>
            <a:ext cx="1295280" cy="533520"/>
            <a:chOff x="0" y="4800600"/>
            <a:chExt cx="1295280" cy="533520"/>
          </a:xfrm>
        </p:grpSpPr>
        <p:sp>
          <p:nvSpPr>
            <p:cNvPr id="249" name=""/>
            <p:cNvSpPr/>
            <p:nvPr/>
          </p:nvSpPr>
          <p:spPr>
            <a:xfrm>
              <a:off x="0" y="480060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ro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85800" y="5029200"/>
              <a:ext cx="609480" cy="30492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3124080" y="4648320"/>
            <a:ext cx="1524240" cy="609480"/>
            <a:chOff x="3124080" y="4648320"/>
            <a:chExt cx="1524240" cy="609480"/>
          </a:xfrm>
        </p:grpSpPr>
        <p:sp>
          <p:nvSpPr>
            <p:cNvPr id="252" name=""/>
            <p:cNvSpPr/>
            <p:nvPr/>
          </p:nvSpPr>
          <p:spPr>
            <a:xfrm>
              <a:off x="3733920" y="46483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re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3124080" y="4953240"/>
              <a:ext cx="609840" cy="30456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5334120" y="4038480"/>
            <a:ext cx="3581280" cy="2591640"/>
            <a:chOff x="5334120" y="4038480"/>
            <a:chExt cx="3581280" cy="2591640"/>
          </a:xfrm>
        </p:grpSpPr>
        <p:grpSp>
          <p:nvGrpSpPr>
            <p:cNvPr id="255" name=""/>
            <p:cNvGrpSpPr/>
            <p:nvPr/>
          </p:nvGrpSpPr>
          <p:grpSpPr>
            <a:xfrm>
              <a:off x="5334120" y="4038480"/>
              <a:ext cx="3581280" cy="2591640"/>
              <a:chOff x="5334120" y="4038480"/>
              <a:chExt cx="3581280" cy="2591640"/>
            </a:xfrm>
          </p:grpSpPr>
          <p:sp>
            <p:nvSpPr>
              <p:cNvPr id="256" name=""/>
              <p:cNvSpPr/>
              <p:nvPr/>
            </p:nvSpPr>
            <p:spPr>
              <a:xfrm>
                <a:off x="5873760" y="4273200"/>
                <a:ext cx="2197080" cy="2197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483240" y="4959000"/>
                <a:ext cx="978120" cy="978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934320" y="4267080"/>
                <a:ext cx="0" cy="685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934320" y="5943240"/>
                <a:ext cx="0" cy="5335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019920" y="4800240"/>
                <a:ext cx="533160" cy="381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H="1">
                <a:off x="6019560" y="5638680"/>
                <a:ext cx="53316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V="1">
                <a:off x="7391520" y="4876200"/>
                <a:ext cx="60948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391520" y="5714640"/>
                <a:ext cx="45720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791320" y="617184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0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334120" y="525744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1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867280" y="403848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2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543800" y="403848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3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8077320" y="525744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4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543800" y="617184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5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0" name=""/>
            <p:cNvSpPr/>
            <p:nvPr/>
          </p:nvSpPr>
          <p:spPr>
            <a:xfrm>
              <a:off x="7162920" y="586728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400800" y="586728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943600" y="510516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7618320" y="4876920"/>
            <a:ext cx="1524240" cy="609480"/>
            <a:chOff x="7618320" y="4876920"/>
            <a:chExt cx="1524240" cy="609480"/>
          </a:xfrm>
        </p:grpSpPr>
        <p:sp>
          <p:nvSpPr>
            <p:cNvPr id="274" name=""/>
            <p:cNvSpPr/>
            <p:nvPr/>
          </p:nvSpPr>
          <p:spPr>
            <a:xfrm>
              <a:off x="8228160" y="48769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ro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7618320" y="5181840"/>
              <a:ext cx="609840" cy="30456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4724280" y="4648320"/>
            <a:ext cx="1295640" cy="532800"/>
            <a:chOff x="4724280" y="4648320"/>
            <a:chExt cx="1295640" cy="532800"/>
          </a:xfrm>
        </p:grpSpPr>
        <p:sp>
          <p:nvSpPr>
            <p:cNvPr id="277" name=""/>
            <p:cNvSpPr/>
            <p:nvPr/>
          </p:nvSpPr>
          <p:spPr>
            <a:xfrm>
              <a:off x="4724280" y="46483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re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410080" y="4876560"/>
              <a:ext cx="609840" cy="30456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Dodavanje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ement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676520" y="3200400"/>
            <a:ext cx="4647960" cy="2592000"/>
            <a:chOff x="1676520" y="3200400"/>
            <a:chExt cx="4647960" cy="2592000"/>
          </a:xfrm>
        </p:grpSpPr>
        <p:grpSp>
          <p:nvGrpSpPr>
            <p:cNvPr id="281" name=""/>
            <p:cNvGrpSpPr/>
            <p:nvPr/>
          </p:nvGrpSpPr>
          <p:grpSpPr>
            <a:xfrm>
              <a:off x="2209680" y="3200400"/>
              <a:ext cx="3581640" cy="2592000"/>
              <a:chOff x="2209680" y="3200400"/>
              <a:chExt cx="3581640" cy="2592000"/>
            </a:xfrm>
          </p:grpSpPr>
          <p:grpSp>
            <p:nvGrpSpPr>
              <p:cNvPr id="282" name=""/>
              <p:cNvGrpSpPr/>
              <p:nvPr/>
            </p:nvGrpSpPr>
            <p:grpSpPr>
              <a:xfrm>
                <a:off x="2209680" y="3200400"/>
                <a:ext cx="3581640" cy="2592000"/>
                <a:chOff x="2209680" y="3200400"/>
                <a:chExt cx="3581640" cy="259200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2749680" y="3435480"/>
                  <a:ext cx="2197080" cy="21970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3359160" y="4121280"/>
                  <a:ext cx="977760" cy="977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3809880" y="3429000"/>
                  <a:ext cx="0" cy="6858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3809880" y="5105520"/>
                  <a:ext cx="0" cy="53316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2895480" y="3962520"/>
                  <a:ext cx="533520" cy="380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 flipH="1">
                  <a:off x="2895480" y="4800600"/>
                  <a:ext cx="53352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flipV="1">
                  <a:off x="4267080" y="4038120"/>
                  <a:ext cx="609840" cy="304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4267080" y="4876920"/>
                  <a:ext cx="457200" cy="3045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2666880" y="533412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0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2209680" y="441972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1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2743200" y="320040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2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4419720" y="320040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3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4952880" y="441972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4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4419720" y="533412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5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7" name=""/>
              <p:cNvSpPr/>
              <p:nvPr/>
            </p:nvSpPr>
            <p:spPr>
              <a:xfrm>
                <a:off x="3200400" y="365760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038480" y="3657600"/>
                <a:ext cx="6098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419720" y="434340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676520" y="3962520"/>
              <a:ext cx="1295280" cy="533160"/>
              <a:chOff x="1676520" y="3962520"/>
              <a:chExt cx="1295280" cy="533160"/>
            </a:xfrm>
          </p:grpSpPr>
          <p:sp>
            <p:nvSpPr>
              <p:cNvPr id="301" name=""/>
              <p:cNvSpPr/>
              <p:nvPr/>
            </p:nvSpPr>
            <p:spPr>
              <a:xfrm>
                <a:off x="1676520" y="396252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fro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362320" y="4191120"/>
                <a:ext cx="609480" cy="30456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4800240" y="3809880"/>
              <a:ext cx="1524240" cy="609840"/>
              <a:chOff x="4800240" y="3809880"/>
              <a:chExt cx="1524240" cy="609840"/>
            </a:xfrm>
          </p:grpSpPr>
          <p:sp>
            <p:nvSpPr>
              <p:cNvPr id="304" name=""/>
              <p:cNvSpPr/>
              <p:nvPr/>
            </p:nvSpPr>
            <p:spPr>
              <a:xfrm>
                <a:off x="5410080" y="380988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rea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>
                <a:off x="4800240" y="4114800"/>
                <a:ext cx="609480" cy="30492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6" name=""/>
          <p:cNvSpPr/>
          <p:nvPr/>
        </p:nvSpPr>
        <p:spPr>
          <a:xfrm>
            <a:off x="685800" y="12952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mjeri s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ear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jedno mjesto u smjeru kazaljke na sat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Dodavanje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ement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5800" y="12952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mjeri s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ear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jedno mjesto u smjeru kazaljke na sat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1676520" y="3200400"/>
            <a:ext cx="4114800" cy="3430080"/>
            <a:chOff x="1676520" y="3200400"/>
            <a:chExt cx="4114800" cy="3430080"/>
          </a:xfrm>
        </p:grpSpPr>
        <p:grpSp>
          <p:nvGrpSpPr>
            <p:cNvPr id="310" name=""/>
            <p:cNvGrpSpPr/>
            <p:nvPr/>
          </p:nvGrpSpPr>
          <p:grpSpPr>
            <a:xfrm>
              <a:off x="2209680" y="3200400"/>
              <a:ext cx="3581640" cy="2592000"/>
              <a:chOff x="2209680" y="3200400"/>
              <a:chExt cx="3581640" cy="2592000"/>
            </a:xfrm>
          </p:grpSpPr>
          <p:sp>
            <p:nvSpPr>
              <p:cNvPr id="311" name=""/>
              <p:cNvSpPr/>
              <p:nvPr/>
            </p:nvSpPr>
            <p:spPr>
              <a:xfrm>
                <a:off x="2749680" y="3435480"/>
                <a:ext cx="2197080" cy="2197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359160" y="4121280"/>
                <a:ext cx="977760" cy="977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809880" y="3429000"/>
                <a:ext cx="0" cy="685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809880" y="5105520"/>
                <a:ext cx="0" cy="5331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895480" y="3962520"/>
                <a:ext cx="53352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>
                <a:off x="2895480" y="4800600"/>
                <a:ext cx="53352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V="1">
                <a:off x="4267080" y="4038120"/>
                <a:ext cx="60984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267080" y="4876920"/>
                <a:ext cx="45720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666880" y="533412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0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209680" y="441972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1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743200" y="32004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2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419720" y="32004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3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952880" y="441972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4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419720" y="533412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5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5" name=""/>
            <p:cNvSpPr/>
            <p:nvPr/>
          </p:nvSpPr>
          <p:spPr>
            <a:xfrm>
              <a:off x="3200400" y="365760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038480" y="3657600"/>
              <a:ext cx="609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419720" y="434340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1676520" y="3962520"/>
              <a:ext cx="1295280" cy="533160"/>
              <a:chOff x="1676520" y="3962520"/>
              <a:chExt cx="1295280" cy="533160"/>
            </a:xfrm>
          </p:grpSpPr>
          <p:sp>
            <p:nvSpPr>
              <p:cNvPr id="329" name=""/>
              <p:cNvSpPr/>
              <p:nvPr/>
            </p:nvSpPr>
            <p:spPr>
              <a:xfrm>
                <a:off x="1676520" y="396252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fro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362320" y="4191120"/>
                <a:ext cx="609480" cy="30456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3962520" y="5334120"/>
              <a:ext cx="914400" cy="1296360"/>
              <a:chOff x="3962520" y="5334120"/>
              <a:chExt cx="914400" cy="1296360"/>
            </a:xfrm>
          </p:grpSpPr>
          <p:sp>
            <p:nvSpPr>
              <p:cNvPr id="332" name=""/>
              <p:cNvSpPr/>
              <p:nvPr/>
            </p:nvSpPr>
            <p:spPr>
              <a:xfrm>
                <a:off x="3962520" y="617220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rea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V="1">
                <a:off x="4267080" y="5334120"/>
                <a:ext cx="0" cy="91440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4" name=""/>
          <p:cNvSpPr/>
          <p:nvPr/>
        </p:nvSpPr>
        <p:spPr>
          <a:xfrm>
            <a:off x="762120" y="24382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Zatim se element stavi u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ueue[rear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09880" y="5105520"/>
            <a:ext cx="60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d (Queue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earna lis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dan kraj liste j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ront</a:t>
            </a:r>
            <a:r>
              <a:rPr b="0" lang="sr-Latn-CS" sz="3200" spc="-1" strike="noStrike">
                <a:solidFill>
                  <a:srgbClr val="ff0033"/>
                </a:solidFill>
                <a:latin typeface="Times New Roman"/>
              </a:rPr>
              <a:t> (ili head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ugi kraj liste j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ear</a:t>
            </a:r>
            <a:r>
              <a:rPr b="0" lang="sr-Latn-CS" sz="3200" spc="-1" strike="noStrike">
                <a:solidFill>
                  <a:srgbClr val="ff0033"/>
                </a:solidFill>
                <a:latin typeface="Times New Roman"/>
              </a:rPr>
              <a:t> (ili tail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davanje vrijednosti samo sa stran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klanjanje vrijednosti samo sa stran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ro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981080" y="762120"/>
            <a:ext cx="1486080" cy="1028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715000" y="762120"/>
            <a:ext cx="148608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Brisanje e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ement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1676520" y="3200400"/>
            <a:ext cx="4647960" cy="2592000"/>
            <a:chOff x="1676520" y="3200400"/>
            <a:chExt cx="4647960" cy="2592000"/>
          </a:xfrm>
        </p:grpSpPr>
        <p:grpSp>
          <p:nvGrpSpPr>
            <p:cNvPr id="338" name=""/>
            <p:cNvGrpSpPr/>
            <p:nvPr/>
          </p:nvGrpSpPr>
          <p:grpSpPr>
            <a:xfrm>
              <a:off x="2209680" y="3200400"/>
              <a:ext cx="3581640" cy="2592000"/>
              <a:chOff x="2209680" y="3200400"/>
              <a:chExt cx="3581640" cy="2592000"/>
            </a:xfrm>
          </p:grpSpPr>
          <p:grpSp>
            <p:nvGrpSpPr>
              <p:cNvPr id="339" name=""/>
              <p:cNvGrpSpPr/>
              <p:nvPr/>
            </p:nvGrpSpPr>
            <p:grpSpPr>
              <a:xfrm>
                <a:off x="2209680" y="3200400"/>
                <a:ext cx="3581640" cy="2592000"/>
                <a:chOff x="2209680" y="3200400"/>
                <a:chExt cx="3581640" cy="259200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2749680" y="3435480"/>
                  <a:ext cx="2197080" cy="21970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3359160" y="4121280"/>
                  <a:ext cx="977760" cy="977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3809880" y="3429000"/>
                  <a:ext cx="0" cy="6858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3809880" y="5105520"/>
                  <a:ext cx="0" cy="53316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2895480" y="3962520"/>
                  <a:ext cx="533520" cy="380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flipH="1">
                  <a:off x="2895480" y="4800600"/>
                  <a:ext cx="53352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flipV="1">
                  <a:off x="4267080" y="4038120"/>
                  <a:ext cx="609840" cy="304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4267080" y="4876920"/>
                  <a:ext cx="457200" cy="3045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2666880" y="533412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0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2209680" y="441972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1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2743200" y="320040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2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4419720" y="320040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3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4952880" y="441972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4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4419720" y="533412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5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4" name=""/>
              <p:cNvSpPr/>
              <p:nvPr/>
            </p:nvSpPr>
            <p:spPr>
              <a:xfrm>
                <a:off x="3200400" y="365760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038480" y="3657600"/>
                <a:ext cx="6098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419720" y="434340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1676520" y="3962520"/>
              <a:ext cx="1295280" cy="533160"/>
              <a:chOff x="1676520" y="3962520"/>
              <a:chExt cx="1295280" cy="533160"/>
            </a:xfrm>
          </p:grpSpPr>
          <p:sp>
            <p:nvSpPr>
              <p:cNvPr id="358" name=""/>
              <p:cNvSpPr/>
              <p:nvPr/>
            </p:nvSpPr>
            <p:spPr>
              <a:xfrm>
                <a:off x="1676520" y="396252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fro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362320" y="4191120"/>
                <a:ext cx="609480" cy="30456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4800240" y="3809880"/>
              <a:ext cx="1524240" cy="609840"/>
              <a:chOff x="4800240" y="3809880"/>
              <a:chExt cx="1524240" cy="609840"/>
            </a:xfrm>
          </p:grpSpPr>
          <p:sp>
            <p:nvSpPr>
              <p:cNvPr id="361" name=""/>
              <p:cNvSpPr/>
              <p:nvPr/>
            </p:nvSpPr>
            <p:spPr>
              <a:xfrm>
                <a:off x="5410080" y="380988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rea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H="1">
                <a:off x="4800240" y="4114800"/>
                <a:ext cx="609480" cy="30492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3" name=""/>
          <p:cNvSpPr/>
          <p:nvPr/>
        </p:nvSpPr>
        <p:spPr>
          <a:xfrm>
            <a:off x="685800" y="12952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mjeri 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ront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jednu poziciju u smjeru kazaljke sa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Brisanje e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ement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2209680" y="3200400"/>
            <a:ext cx="3581640" cy="2592000"/>
            <a:chOff x="2209680" y="3200400"/>
            <a:chExt cx="3581640" cy="2592000"/>
          </a:xfrm>
        </p:grpSpPr>
        <p:grpSp>
          <p:nvGrpSpPr>
            <p:cNvPr id="366" name=""/>
            <p:cNvGrpSpPr/>
            <p:nvPr/>
          </p:nvGrpSpPr>
          <p:grpSpPr>
            <a:xfrm>
              <a:off x="2209680" y="3200400"/>
              <a:ext cx="3581640" cy="2592000"/>
              <a:chOff x="2209680" y="3200400"/>
              <a:chExt cx="3581640" cy="2592000"/>
            </a:xfrm>
          </p:grpSpPr>
          <p:sp>
            <p:nvSpPr>
              <p:cNvPr id="367" name=""/>
              <p:cNvSpPr/>
              <p:nvPr/>
            </p:nvSpPr>
            <p:spPr>
              <a:xfrm>
                <a:off x="2749680" y="3435480"/>
                <a:ext cx="2197080" cy="2197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359160" y="4121280"/>
                <a:ext cx="977760" cy="977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809880" y="3429000"/>
                <a:ext cx="0" cy="685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809880" y="5105520"/>
                <a:ext cx="0" cy="5331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2895480" y="3962520"/>
                <a:ext cx="53352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>
                <a:off x="2895480" y="4800600"/>
                <a:ext cx="53352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V="1">
                <a:off x="4267080" y="4038120"/>
                <a:ext cx="60984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267080" y="4876920"/>
                <a:ext cx="45720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666880" y="533412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0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2209680" y="441972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1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743200" y="32004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2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419720" y="32004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3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952880" y="441972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4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419720" y="533412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5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1" name=""/>
            <p:cNvSpPr/>
            <p:nvPr/>
          </p:nvSpPr>
          <p:spPr>
            <a:xfrm>
              <a:off x="3200400" y="365760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038480" y="3657600"/>
              <a:ext cx="609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419720" y="434340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1828800" y="3352680"/>
            <a:ext cx="1295280" cy="533520"/>
            <a:chOff x="1828800" y="3352680"/>
            <a:chExt cx="1295280" cy="533520"/>
          </a:xfrm>
        </p:grpSpPr>
        <p:sp>
          <p:nvSpPr>
            <p:cNvPr id="385" name=""/>
            <p:cNvSpPr/>
            <p:nvPr/>
          </p:nvSpPr>
          <p:spPr>
            <a:xfrm>
              <a:off x="1828800" y="335268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ro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514600" y="3581280"/>
              <a:ext cx="609480" cy="30492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4800240" y="3809880"/>
            <a:ext cx="1524240" cy="609840"/>
            <a:chOff x="4800240" y="3809880"/>
            <a:chExt cx="1524240" cy="609840"/>
          </a:xfrm>
        </p:grpSpPr>
        <p:sp>
          <p:nvSpPr>
            <p:cNvPr id="388" name=""/>
            <p:cNvSpPr/>
            <p:nvPr/>
          </p:nvSpPr>
          <p:spPr>
            <a:xfrm>
              <a:off x="5410080" y="380988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re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4800240" y="4114800"/>
              <a:ext cx="609480" cy="30492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380880" y="121932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mjeri 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ront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jednu poziciju u smjeru kazaljke sa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Zatim se vrati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ueue[front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" y="190512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Times New Roman"/>
              </a:rPr>
              <a:t>Pomjeranje u smjeru kazaljke sat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752480" y="2590920"/>
            <a:ext cx="4419720" cy="2591640"/>
            <a:chOff x="1752480" y="2590920"/>
            <a:chExt cx="4419720" cy="2591640"/>
          </a:xfrm>
        </p:grpSpPr>
        <p:grpSp>
          <p:nvGrpSpPr>
            <p:cNvPr id="394" name=""/>
            <p:cNvGrpSpPr/>
            <p:nvPr/>
          </p:nvGrpSpPr>
          <p:grpSpPr>
            <a:xfrm>
              <a:off x="2209680" y="2590920"/>
              <a:ext cx="3581640" cy="2591640"/>
              <a:chOff x="2209680" y="2590920"/>
              <a:chExt cx="3581640" cy="2591640"/>
            </a:xfrm>
          </p:grpSpPr>
          <p:grpSp>
            <p:nvGrpSpPr>
              <p:cNvPr id="395" name=""/>
              <p:cNvGrpSpPr/>
              <p:nvPr/>
            </p:nvGrpSpPr>
            <p:grpSpPr>
              <a:xfrm>
                <a:off x="2209680" y="2590920"/>
                <a:ext cx="3581640" cy="2591640"/>
                <a:chOff x="2209680" y="2590920"/>
                <a:chExt cx="3581640" cy="259164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2749680" y="2825640"/>
                  <a:ext cx="2197080" cy="21970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3359160" y="3511440"/>
                  <a:ext cx="977760" cy="9781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3809880" y="2819520"/>
                  <a:ext cx="0" cy="6858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3809880" y="4495680"/>
                  <a:ext cx="0" cy="5335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2895480" y="3352680"/>
                  <a:ext cx="533520" cy="381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 flipH="1">
                  <a:off x="2895480" y="4191120"/>
                  <a:ext cx="53352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 flipV="1">
                  <a:off x="4267080" y="3428640"/>
                  <a:ext cx="609840" cy="304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4267080" y="4267080"/>
                  <a:ext cx="457200" cy="304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2666880" y="472428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0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2209680" y="380988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1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2743200" y="259092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2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4419720" y="259092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3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4952880" y="380988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4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4419720" y="472428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5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0" name=""/>
              <p:cNvSpPr/>
              <p:nvPr/>
            </p:nvSpPr>
            <p:spPr>
              <a:xfrm>
                <a:off x="3200400" y="304812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038480" y="3048120"/>
                <a:ext cx="6098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419720" y="373392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1752480" y="3276720"/>
              <a:ext cx="1295640" cy="533160"/>
              <a:chOff x="1752480" y="3276720"/>
              <a:chExt cx="1295640" cy="533160"/>
            </a:xfrm>
          </p:grpSpPr>
          <p:sp>
            <p:nvSpPr>
              <p:cNvPr id="414" name=""/>
              <p:cNvSpPr/>
              <p:nvPr/>
            </p:nvSpPr>
            <p:spPr>
              <a:xfrm>
                <a:off x="1752480" y="327672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fro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438280" y="3505320"/>
                <a:ext cx="609840" cy="30456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4647960" y="3200400"/>
              <a:ext cx="1524240" cy="609480"/>
              <a:chOff x="4647960" y="3200400"/>
              <a:chExt cx="1524240" cy="609480"/>
            </a:xfrm>
          </p:grpSpPr>
          <p:sp>
            <p:nvSpPr>
              <p:cNvPr id="417" name=""/>
              <p:cNvSpPr/>
              <p:nvPr/>
            </p:nvSpPr>
            <p:spPr>
              <a:xfrm>
                <a:off x="5257800" y="320040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rea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H="1">
                <a:off x="4647960" y="3505320"/>
                <a:ext cx="609480" cy="30456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9" name=""/>
          <p:cNvSpPr/>
          <p:nvPr/>
        </p:nvSpPr>
        <p:spPr>
          <a:xfrm>
            <a:off x="685800" y="1295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ear++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ear = = capacity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rear = 0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57200" y="58672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ear = (rear + 1) % capacity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Ispraznimo ovaj re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57913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2133720" y="1295280"/>
            <a:ext cx="4417920" cy="2592000"/>
            <a:chOff x="2133720" y="1295280"/>
            <a:chExt cx="4417920" cy="2592000"/>
          </a:xfrm>
        </p:grpSpPr>
        <p:grpSp>
          <p:nvGrpSpPr>
            <p:cNvPr id="424" name=""/>
            <p:cNvGrpSpPr/>
            <p:nvPr/>
          </p:nvGrpSpPr>
          <p:grpSpPr>
            <a:xfrm>
              <a:off x="2590920" y="1295280"/>
              <a:ext cx="3581280" cy="2592000"/>
              <a:chOff x="2590920" y="1295280"/>
              <a:chExt cx="3581280" cy="2592000"/>
            </a:xfrm>
          </p:grpSpPr>
          <p:grpSp>
            <p:nvGrpSpPr>
              <p:cNvPr id="425" name=""/>
              <p:cNvGrpSpPr/>
              <p:nvPr/>
            </p:nvGrpSpPr>
            <p:grpSpPr>
              <a:xfrm>
                <a:off x="2590920" y="1295280"/>
                <a:ext cx="3581280" cy="2592000"/>
                <a:chOff x="2590920" y="1295280"/>
                <a:chExt cx="3581280" cy="2592000"/>
              </a:xfrm>
            </p:grpSpPr>
            <p:sp>
              <p:nvSpPr>
                <p:cNvPr id="426" name=""/>
                <p:cNvSpPr/>
                <p:nvPr/>
              </p:nvSpPr>
              <p:spPr>
                <a:xfrm>
                  <a:off x="3130560" y="1530360"/>
                  <a:ext cx="2197080" cy="21970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3740040" y="2216160"/>
                  <a:ext cx="978120" cy="977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4191120" y="1523880"/>
                  <a:ext cx="0" cy="6858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4191120" y="3200400"/>
                  <a:ext cx="0" cy="5335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3276720" y="2057400"/>
                  <a:ext cx="533160" cy="380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 flipH="1">
                  <a:off x="3276360" y="2895480"/>
                  <a:ext cx="53316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 flipV="1">
                  <a:off x="4648320" y="2133720"/>
                  <a:ext cx="609480" cy="3045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4648320" y="2971800"/>
                  <a:ext cx="457200" cy="304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3048120" y="342900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0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2590920" y="251460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1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3124080" y="129528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2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4800600" y="129528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3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5334120" y="251460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4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4800600" y="342900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5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0" name=""/>
              <p:cNvSpPr/>
              <p:nvPr/>
            </p:nvSpPr>
            <p:spPr>
              <a:xfrm>
                <a:off x="4419720" y="312408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657600" y="312408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200400" y="236232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5027400" y="2133720"/>
              <a:ext cx="1524240" cy="609480"/>
              <a:chOff x="5027400" y="2133720"/>
              <a:chExt cx="1524240" cy="609480"/>
            </a:xfrm>
          </p:grpSpPr>
          <p:sp>
            <p:nvSpPr>
              <p:cNvPr id="444" name=""/>
              <p:cNvSpPr/>
              <p:nvPr/>
            </p:nvSpPr>
            <p:spPr>
              <a:xfrm>
                <a:off x="5637240" y="213372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fro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>
                <a:off x="5027400" y="2438280"/>
                <a:ext cx="609480" cy="30492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2133720" y="1905120"/>
              <a:ext cx="1295280" cy="533160"/>
              <a:chOff x="2133720" y="1905120"/>
              <a:chExt cx="1295280" cy="533160"/>
            </a:xfrm>
          </p:grpSpPr>
          <p:sp>
            <p:nvSpPr>
              <p:cNvPr id="447" name=""/>
              <p:cNvSpPr/>
              <p:nvPr/>
            </p:nvSpPr>
            <p:spPr>
              <a:xfrm>
                <a:off x="2133720" y="190512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rea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819520" y="2133720"/>
                <a:ext cx="609480" cy="30456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Ispraznimo ovaj re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57913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2590920" y="1295280"/>
            <a:ext cx="3581280" cy="2592000"/>
            <a:chOff x="2590920" y="1295280"/>
            <a:chExt cx="3581280" cy="2592000"/>
          </a:xfrm>
        </p:grpSpPr>
        <p:grpSp>
          <p:nvGrpSpPr>
            <p:cNvPr id="452" name=""/>
            <p:cNvGrpSpPr/>
            <p:nvPr/>
          </p:nvGrpSpPr>
          <p:grpSpPr>
            <a:xfrm>
              <a:off x="2590920" y="1295280"/>
              <a:ext cx="3581280" cy="2592000"/>
              <a:chOff x="2590920" y="1295280"/>
              <a:chExt cx="3581280" cy="2592000"/>
            </a:xfrm>
          </p:grpSpPr>
          <p:sp>
            <p:nvSpPr>
              <p:cNvPr id="453" name=""/>
              <p:cNvSpPr/>
              <p:nvPr/>
            </p:nvSpPr>
            <p:spPr>
              <a:xfrm>
                <a:off x="3130560" y="1530360"/>
                <a:ext cx="2197080" cy="2197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740040" y="2216160"/>
                <a:ext cx="978120" cy="977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191120" y="1523880"/>
                <a:ext cx="0" cy="685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191120" y="3200400"/>
                <a:ext cx="0" cy="5335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276720" y="2057400"/>
                <a:ext cx="53316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H="1">
                <a:off x="3276360" y="2895480"/>
                <a:ext cx="53316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4648320" y="2133720"/>
                <a:ext cx="60948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648320" y="2971800"/>
                <a:ext cx="45720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048120" y="34290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0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590920" y="25146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1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124080" y="129528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2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800600" y="129528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3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334120" y="25146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4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800600" y="34290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5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7" name=""/>
            <p:cNvSpPr/>
            <p:nvPr/>
          </p:nvSpPr>
          <p:spPr>
            <a:xfrm>
              <a:off x="4419720" y="3124080"/>
              <a:ext cx="609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657600" y="312408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200400" y="236232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0" name=""/>
          <p:cNvSpPr/>
          <p:nvPr/>
        </p:nvSpPr>
        <p:spPr>
          <a:xfrm>
            <a:off x="4341960" y="4191120"/>
            <a:ext cx="914400" cy="45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2133720" y="1905120"/>
            <a:ext cx="1295280" cy="533160"/>
            <a:chOff x="2133720" y="1905120"/>
            <a:chExt cx="1295280" cy="533160"/>
          </a:xfrm>
        </p:grpSpPr>
        <p:sp>
          <p:nvSpPr>
            <p:cNvPr id="472" name=""/>
            <p:cNvSpPr/>
            <p:nvPr/>
          </p:nvSpPr>
          <p:spPr>
            <a:xfrm>
              <a:off x="2133720" y="19051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re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819520" y="2133720"/>
              <a:ext cx="609480" cy="30456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 flipV="1">
            <a:off x="4724280" y="3276720"/>
            <a:ext cx="0" cy="91440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Ispraznimo ovaj re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57913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2590920" y="1295280"/>
            <a:ext cx="3581280" cy="2592000"/>
            <a:chOff x="2590920" y="1295280"/>
            <a:chExt cx="3581280" cy="2592000"/>
          </a:xfrm>
        </p:grpSpPr>
        <p:grpSp>
          <p:nvGrpSpPr>
            <p:cNvPr id="478" name=""/>
            <p:cNvGrpSpPr/>
            <p:nvPr/>
          </p:nvGrpSpPr>
          <p:grpSpPr>
            <a:xfrm>
              <a:off x="2590920" y="1295280"/>
              <a:ext cx="3581280" cy="2592000"/>
              <a:chOff x="2590920" y="1295280"/>
              <a:chExt cx="3581280" cy="2592000"/>
            </a:xfrm>
          </p:grpSpPr>
          <p:sp>
            <p:nvSpPr>
              <p:cNvPr id="479" name=""/>
              <p:cNvSpPr/>
              <p:nvPr/>
            </p:nvSpPr>
            <p:spPr>
              <a:xfrm>
                <a:off x="3130560" y="1530360"/>
                <a:ext cx="2197080" cy="2197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740040" y="2216160"/>
                <a:ext cx="978120" cy="977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191120" y="1523880"/>
                <a:ext cx="0" cy="685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191120" y="3200400"/>
                <a:ext cx="0" cy="5335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276720" y="2057400"/>
                <a:ext cx="53316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H="1">
                <a:off x="3276360" y="2895480"/>
                <a:ext cx="53316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V="1">
                <a:off x="4648320" y="2133720"/>
                <a:ext cx="60948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4648320" y="2971800"/>
                <a:ext cx="45720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3048120" y="34290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0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590920" y="25146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1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3124080" y="129528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2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4800600" y="129528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3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334120" y="25146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4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4800600" y="34290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5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3" name=""/>
            <p:cNvSpPr/>
            <p:nvPr/>
          </p:nvSpPr>
          <p:spPr>
            <a:xfrm>
              <a:off x="4419720" y="3124080"/>
              <a:ext cx="609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657600" y="3124080"/>
              <a:ext cx="609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200400" y="236232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3427560" y="4191120"/>
            <a:ext cx="914400" cy="45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2133720" y="1905120"/>
            <a:ext cx="1295280" cy="533160"/>
            <a:chOff x="2133720" y="1905120"/>
            <a:chExt cx="1295280" cy="533160"/>
          </a:xfrm>
        </p:grpSpPr>
        <p:sp>
          <p:nvSpPr>
            <p:cNvPr id="498" name=""/>
            <p:cNvSpPr/>
            <p:nvPr/>
          </p:nvSpPr>
          <p:spPr>
            <a:xfrm>
              <a:off x="2133720" y="19051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re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819520" y="2133720"/>
              <a:ext cx="609480" cy="30456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0" name=""/>
          <p:cNvSpPr/>
          <p:nvPr/>
        </p:nvSpPr>
        <p:spPr>
          <a:xfrm flipV="1">
            <a:off x="3809880" y="3276720"/>
            <a:ext cx="0" cy="91440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Ispraznimo ovaj re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43430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16000"/>
          </a:bodyPr>
          <a:p>
            <a:pPr marL="54720" indent="-547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ada poslije više brisanja red postaje prazan, imam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front = re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20" indent="-547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ada se red konstruiše, on je praz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20" indent="-547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iz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o ga s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front = rear = 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2590920" y="1295280"/>
            <a:ext cx="3581280" cy="2592000"/>
            <a:chOff x="2590920" y="1295280"/>
            <a:chExt cx="3581280" cy="2592000"/>
          </a:xfrm>
        </p:grpSpPr>
        <p:grpSp>
          <p:nvGrpSpPr>
            <p:cNvPr id="504" name=""/>
            <p:cNvGrpSpPr/>
            <p:nvPr/>
          </p:nvGrpSpPr>
          <p:grpSpPr>
            <a:xfrm>
              <a:off x="2590920" y="1295280"/>
              <a:ext cx="3581280" cy="2592000"/>
              <a:chOff x="2590920" y="1295280"/>
              <a:chExt cx="3581280" cy="2592000"/>
            </a:xfrm>
          </p:grpSpPr>
          <p:sp>
            <p:nvSpPr>
              <p:cNvPr id="505" name=""/>
              <p:cNvSpPr/>
              <p:nvPr/>
            </p:nvSpPr>
            <p:spPr>
              <a:xfrm>
                <a:off x="3130560" y="1530360"/>
                <a:ext cx="2197080" cy="2197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3740040" y="2216160"/>
                <a:ext cx="978120" cy="977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4191120" y="1523880"/>
                <a:ext cx="0" cy="685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191120" y="3200400"/>
                <a:ext cx="0" cy="5335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276720" y="2057400"/>
                <a:ext cx="53316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H="1">
                <a:off x="3276360" y="2895480"/>
                <a:ext cx="53316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V="1">
                <a:off x="4648320" y="2133720"/>
                <a:ext cx="60948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648320" y="2971800"/>
                <a:ext cx="45720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048120" y="34290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0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2590920" y="25146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1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3124080" y="129528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2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800600" y="129528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3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5334120" y="25146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4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800600" y="34290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5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9" name=""/>
            <p:cNvSpPr/>
            <p:nvPr/>
          </p:nvSpPr>
          <p:spPr>
            <a:xfrm>
              <a:off x="4419720" y="3124080"/>
              <a:ext cx="609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657600" y="3124080"/>
              <a:ext cx="609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200400" y="2362320"/>
              <a:ext cx="609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1751040" y="3276720"/>
            <a:ext cx="914400" cy="45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2133720" y="1905120"/>
            <a:ext cx="1295280" cy="533160"/>
            <a:chOff x="2133720" y="1905120"/>
            <a:chExt cx="1295280" cy="533160"/>
          </a:xfrm>
        </p:grpSpPr>
        <p:sp>
          <p:nvSpPr>
            <p:cNvPr id="524" name=""/>
            <p:cNvSpPr/>
            <p:nvPr/>
          </p:nvSpPr>
          <p:spPr>
            <a:xfrm>
              <a:off x="2133720" y="19051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re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819520" y="2133720"/>
              <a:ext cx="609480" cy="30456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6" name=""/>
          <p:cNvSpPr/>
          <p:nvPr/>
        </p:nvSpPr>
        <p:spPr>
          <a:xfrm flipV="1">
            <a:off x="2666880" y="2666880"/>
            <a:ext cx="838440" cy="60984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Napunimo re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57913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2209680" y="1295280"/>
            <a:ext cx="4418280" cy="2592000"/>
            <a:chOff x="2209680" y="1295280"/>
            <a:chExt cx="4418280" cy="2592000"/>
          </a:xfrm>
        </p:grpSpPr>
        <p:grpSp>
          <p:nvGrpSpPr>
            <p:cNvPr id="530" name=""/>
            <p:cNvGrpSpPr/>
            <p:nvPr/>
          </p:nvGrpSpPr>
          <p:grpSpPr>
            <a:xfrm>
              <a:off x="2666880" y="1295280"/>
              <a:ext cx="3581640" cy="2592000"/>
              <a:chOff x="2666880" y="1295280"/>
              <a:chExt cx="3581640" cy="2592000"/>
            </a:xfrm>
          </p:grpSpPr>
          <p:grpSp>
            <p:nvGrpSpPr>
              <p:cNvPr id="531" name=""/>
              <p:cNvGrpSpPr/>
              <p:nvPr/>
            </p:nvGrpSpPr>
            <p:grpSpPr>
              <a:xfrm>
                <a:off x="2666880" y="1295280"/>
                <a:ext cx="3581640" cy="2592000"/>
                <a:chOff x="2666880" y="1295280"/>
                <a:chExt cx="3581640" cy="2592000"/>
              </a:xfrm>
            </p:grpSpPr>
            <p:sp>
              <p:nvSpPr>
                <p:cNvPr id="532" name=""/>
                <p:cNvSpPr/>
                <p:nvPr/>
              </p:nvSpPr>
              <p:spPr>
                <a:xfrm>
                  <a:off x="3206880" y="1530360"/>
                  <a:ext cx="2197080" cy="21970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3816360" y="2216160"/>
                  <a:ext cx="977760" cy="977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4267080" y="1523880"/>
                  <a:ext cx="0" cy="6858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4267080" y="3200400"/>
                  <a:ext cx="0" cy="5335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3352680" y="2057400"/>
                  <a:ext cx="533520" cy="380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 flipH="1">
                  <a:off x="3352680" y="2895480"/>
                  <a:ext cx="53352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flipV="1">
                  <a:off x="4724280" y="2133720"/>
                  <a:ext cx="609840" cy="3045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4724280" y="2971800"/>
                  <a:ext cx="457200" cy="304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3124080" y="342900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0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2666880" y="251460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1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3200400" y="129528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2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4876920" y="129528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3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5410080" y="251460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4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4876920" y="342900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5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6" name=""/>
              <p:cNvSpPr/>
              <p:nvPr/>
            </p:nvSpPr>
            <p:spPr>
              <a:xfrm>
                <a:off x="4495680" y="3124080"/>
                <a:ext cx="6098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3733920" y="312408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3276720" y="236232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9" name=""/>
            <p:cNvGrpSpPr/>
            <p:nvPr/>
          </p:nvGrpSpPr>
          <p:grpSpPr>
            <a:xfrm>
              <a:off x="5103720" y="2133720"/>
              <a:ext cx="1524240" cy="609480"/>
              <a:chOff x="5103720" y="2133720"/>
              <a:chExt cx="1524240" cy="609480"/>
            </a:xfrm>
          </p:grpSpPr>
          <p:sp>
            <p:nvSpPr>
              <p:cNvPr id="550" name=""/>
              <p:cNvSpPr/>
              <p:nvPr/>
            </p:nvSpPr>
            <p:spPr>
              <a:xfrm>
                <a:off x="5713560" y="213372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fro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H="1">
                <a:off x="5103720" y="2438280"/>
                <a:ext cx="609840" cy="30492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2" name=""/>
            <p:cNvGrpSpPr/>
            <p:nvPr/>
          </p:nvGrpSpPr>
          <p:grpSpPr>
            <a:xfrm>
              <a:off x="2209680" y="1905120"/>
              <a:ext cx="1295640" cy="533160"/>
              <a:chOff x="2209680" y="1905120"/>
              <a:chExt cx="1295640" cy="533160"/>
            </a:xfrm>
          </p:grpSpPr>
          <p:sp>
            <p:nvSpPr>
              <p:cNvPr id="553" name=""/>
              <p:cNvSpPr/>
              <p:nvPr/>
            </p:nvSpPr>
            <p:spPr>
              <a:xfrm>
                <a:off x="2209680" y="190512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rea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895480" y="2133720"/>
                <a:ext cx="609840" cy="30456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Napunimo re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57913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2666880" y="1295280"/>
            <a:ext cx="3581640" cy="2592000"/>
            <a:chOff x="2666880" y="1295280"/>
            <a:chExt cx="3581640" cy="2592000"/>
          </a:xfrm>
        </p:grpSpPr>
        <p:sp>
          <p:nvSpPr>
            <p:cNvPr id="558" name=""/>
            <p:cNvSpPr/>
            <p:nvPr/>
          </p:nvSpPr>
          <p:spPr>
            <a:xfrm>
              <a:off x="3206880" y="1530360"/>
              <a:ext cx="2197080" cy="21970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816360" y="2216160"/>
              <a:ext cx="977760" cy="977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267080" y="1523880"/>
              <a:ext cx="0" cy="68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267080" y="3200400"/>
              <a:ext cx="0" cy="533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352680" y="2057400"/>
              <a:ext cx="53352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>
              <a:off x="3352680" y="2895480"/>
              <a:ext cx="5335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V="1">
              <a:off x="4724280" y="2133720"/>
              <a:ext cx="60984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724280" y="2971800"/>
              <a:ext cx="45720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124080" y="34290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0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66880" y="25146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1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200400" y="129528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2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876920" y="129528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3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410080" y="25146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4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876920" y="342900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5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2" name=""/>
          <p:cNvSpPr/>
          <p:nvPr/>
        </p:nvSpPr>
        <p:spPr>
          <a:xfrm>
            <a:off x="4495680" y="3124080"/>
            <a:ext cx="60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733920" y="3124080"/>
            <a:ext cx="60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276720" y="2362320"/>
            <a:ext cx="60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5103720" y="2133720"/>
            <a:ext cx="1524240" cy="609480"/>
            <a:chOff x="5103720" y="2133720"/>
            <a:chExt cx="1524240" cy="609480"/>
          </a:xfrm>
        </p:grpSpPr>
        <p:sp>
          <p:nvSpPr>
            <p:cNvPr id="576" name=""/>
            <p:cNvSpPr/>
            <p:nvPr/>
          </p:nvSpPr>
          <p:spPr>
            <a:xfrm>
              <a:off x="5713560" y="21337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ro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5103720" y="2438280"/>
              <a:ext cx="609840" cy="30492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2286000" y="1447920"/>
            <a:ext cx="1295280" cy="533160"/>
            <a:chOff x="2286000" y="1447920"/>
            <a:chExt cx="1295280" cy="533160"/>
          </a:xfrm>
        </p:grpSpPr>
        <p:sp>
          <p:nvSpPr>
            <p:cNvPr id="579" name=""/>
            <p:cNvSpPr/>
            <p:nvPr/>
          </p:nvSpPr>
          <p:spPr>
            <a:xfrm>
              <a:off x="2286000" y="14479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re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971800" y="1676520"/>
              <a:ext cx="609480" cy="30456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1" name=""/>
          <p:cNvSpPr/>
          <p:nvPr/>
        </p:nvSpPr>
        <p:spPr>
          <a:xfrm>
            <a:off x="3809880" y="1752480"/>
            <a:ext cx="60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Napunimo re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800" y="57913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2666880" y="1295280"/>
            <a:ext cx="3581640" cy="2592000"/>
            <a:chOff x="2666880" y="1295280"/>
            <a:chExt cx="3581640" cy="2592000"/>
          </a:xfrm>
        </p:grpSpPr>
        <p:sp>
          <p:nvSpPr>
            <p:cNvPr id="585" name=""/>
            <p:cNvSpPr/>
            <p:nvPr/>
          </p:nvSpPr>
          <p:spPr>
            <a:xfrm>
              <a:off x="3206880" y="1530360"/>
              <a:ext cx="2197080" cy="21970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816360" y="2216160"/>
              <a:ext cx="977760" cy="977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267080" y="1523880"/>
              <a:ext cx="0" cy="68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267080" y="3200400"/>
              <a:ext cx="0" cy="533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352680" y="2057400"/>
              <a:ext cx="53352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>
              <a:off x="3352680" y="2895480"/>
              <a:ext cx="5335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V="1">
              <a:off x="4724280" y="2133720"/>
              <a:ext cx="60984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2971800"/>
              <a:ext cx="45720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124080" y="34290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0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666880" y="25146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1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200400" y="129528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2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876920" y="129528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3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410080" y="25146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4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876920" y="342900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5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9" name=""/>
          <p:cNvSpPr/>
          <p:nvPr/>
        </p:nvSpPr>
        <p:spPr>
          <a:xfrm>
            <a:off x="4495680" y="3124080"/>
            <a:ext cx="60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733920" y="3124080"/>
            <a:ext cx="60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276720" y="2362320"/>
            <a:ext cx="60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5103720" y="2133720"/>
            <a:ext cx="1524240" cy="609480"/>
            <a:chOff x="5103720" y="2133720"/>
            <a:chExt cx="1524240" cy="609480"/>
          </a:xfrm>
        </p:grpSpPr>
        <p:sp>
          <p:nvSpPr>
            <p:cNvPr id="603" name=""/>
            <p:cNvSpPr/>
            <p:nvPr/>
          </p:nvSpPr>
          <p:spPr>
            <a:xfrm>
              <a:off x="5713560" y="21337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ro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>
              <a:off x="5103720" y="2438280"/>
              <a:ext cx="609840" cy="30492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5" name=""/>
          <p:cNvSpPr/>
          <p:nvPr/>
        </p:nvSpPr>
        <p:spPr>
          <a:xfrm>
            <a:off x="5715000" y="1371600"/>
            <a:ext cx="914400" cy="45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809880" y="1752480"/>
            <a:ext cx="60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572000" y="1752480"/>
            <a:ext cx="60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5028840" y="1600200"/>
            <a:ext cx="685800" cy="38088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d za autobu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28600" y="1981080"/>
            <a:ext cx="1246320" cy="868320"/>
            <a:chOff x="228600" y="1981080"/>
            <a:chExt cx="1246320" cy="868320"/>
          </a:xfrm>
        </p:grpSpPr>
        <p:sp>
          <p:nvSpPr>
            <p:cNvPr id="56" name=""/>
            <p:cNvSpPr/>
            <p:nvPr/>
          </p:nvSpPr>
          <p:spPr>
            <a:xfrm>
              <a:off x="228600" y="2133720"/>
              <a:ext cx="914400" cy="7038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Bus Sto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>
              <a:off x="685800" y="1981080"/>
              <a:ext cx="789120" cy="868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124080" y="2133720"/>
            <a:ext cx="457200" cy="761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86200" y="2438280"/>
            <a:ext cx="457200" cy="4273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4495680" y="213372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37160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371600" y="32767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0968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19320" y="3352680"/>
            <a:ext cx="91440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133720" y="3048120"/>
            <a:ext cx="9144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8120" y="29718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819520" y="2971800"/>
            <a:ext cx="9144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988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1280" y="3048120"/>
            <a:ext cx="9144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4832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914400" y="3429000"/>
            <a:ext cx="1063800" cy="8222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6"/>
          <a:stretch/>
        </p:blipFill>
        <p:spPr>
          <a:xfrm>
            <a:off x="2133720" y="1752480"/>
            <a:ext cx="742680" cy="12002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7"/>
          <a:stretch/>
        </p:blipFill>
        <p:spPr>
          <a:xfrm>
            <a:off x="1371600" y="1752480"/>
            <a:ext cx="68580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Napunimo re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2666880" y="1295280"/>
            <a:ext cx="3581640" cy="2592000"/>
            <a:chOff x="2666880" y="1295280"/>
            <a:chExt cx="3581640" cy="2592000"/>
          </a:xfrm>
        </p:grpSpPr>
        <p:sp>
          <p:nvSpPr>
            <p:cNvPr id="611" name=""/>
            <p:cNvSpPr/>
            <p:nvPr/>
          </p:nvSpPr>
          <p:spPr>
            <a:xfrm>
              <a:off x="3206880" y="1530360"/>
              <a:ext cx="2197080" cy="21970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16360" y="2216160"/>
              <a:ext cx="977760" cy="977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267080" y="1523880"/>
              <a:ext cx="0" cy="68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267080" y="3200400"/>
              <a:ext cx="0" cy="533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352680" y="2057400"/>
              <a:ext cx="53352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>
              <a:off x="3352680" y="2895480"/>
              <a:ext cx="5335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V="1">
              <a:off x="4724280" y="2133720"/>
              <a:ext cx="60984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724280" y="2971800"/>
              <a:ext cx="45720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124080" y="34290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0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666880" y="25146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1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200400" y="129528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2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876920" y="129528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3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410080" y="25146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4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876920" y="342900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5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5" name=""/>
          <p:cNvSpPr/>
          <p:nvPr/>
        </p:nvSpPr>
        <p:spPr>
          <a:xfrm>
            <a:off x="4495680" y="3124080"/>
            <a:ext cx="60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733920" y="3124080"/>
            <a:ext cx="60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276720" y="2362320"/>
            <a:ext cx="60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5103720" y="2133720"/>
            <a:ext cx="1524240" cy="609480"/>
            <a:chOff x="5103720" y="2133720"/>
            <a:chExt cx="1524240" cy="609480"/>
          </a:xfrm>
        </p:grpSpPr>
        <p:sp>
          <p:nvSpPr>
            <p:cNvPr id="629" name=""/>
            <p:cNvSpPr/>
            <p:nvPr/>
          </p:nvSpPr>
          <p:spPr>
            <a:xfrm>
              <a:off x="5713560" y="21337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ro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103720" y="2438280"/>
              <a:ext cx="609840" cy="30492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" name=""/>
          <p:cNvSpPr/>
          <p:nvPr/>
        </p:nvSpPr>
        <p:spPr>
          <a:xfrm>
            <a:off x="5715000" y="3200400"/>
            <a:ext cx="914400" cy="45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809880" y="1752480"/>
            <a:ext cx="60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572000" y="1752480"/>
            <a:ext cx="60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800600" y="2438280"/>
            <a:ext cx="60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H="1" flipV="1">
            <a:off x="5028840" y="2895480"/>
            <a:ext cx="685800" cy="53352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85800" y="434340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slije niza dodavanja, red je pun, pa j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ront = r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Ne možemo napraviti razliku između praznog reda i punog red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Otklanjanje problem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e dozvoliti da se red napun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Ako dodavanje elementa uzrokuje prepunjavanje, povećati veličinu niza (moguće u C/C++ i Java-i, nije moguće u Pascal-u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sati Bulovsk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omjenljiv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lastOperationIsAdd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Svako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AddQ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ostavlja ovu promjenljivu</a:t>
            </a:r>
            <a:r>
              <a:rPr b="0" lang="sr-Latn-CS" sz="24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0" lang="sr-Latn-CS" sz="24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Svak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DeleteQ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ostavlja ovu promjenljivu</a:t>
            </a:r>
            <a:r>
              <a:rPr b="0" lang="sr-Latn-CS" sz="24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Red je prazan ako je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(front == rear) &amp;&amp; !lastOperationIsAdd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Red je pun ako j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(front == rear) &amp;&amp; lastOperationIsAdd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Otklanjanje problem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8915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sat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cjelobrojnu promjenljiv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siz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vak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ddQ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rađuje 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size+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vak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DeleteQ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rađuje 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size-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Red je prazan ako j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(size == 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Red je pun ako j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(size == arrayLength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an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u neznatno bolje ako se koristi prva startegij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6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6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6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6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6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6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6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6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Implementacija pomoću list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4714920" cy="5343480"/>
          </a:xfrm>
          <a:prstGeom prst="rect">
            <a:avLst/>
          </a:prstGeom>
          <a:ln w="0">
            <a:noFill/>
          </a:ln>
        </p:spPr>
      </p:pic>
      <p:sp>
        <p:nvSpPr>
          <p:cNvPr id="643" name=""/>
          <p:cNvSpPr/>
          <p:nvPr/>
        </p:nvSpPr>
        <p:spPr>
          <a:xfrm>
            <a:off x="6553080" y="1828800"/>
            <a:ext cx="2362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ddQ i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En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Implementacija pomoću list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45" name="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5000400" cy="5410080"/>
          </a:xfrm>
          <a:prstGeom prst="rect">
            <a:avLst/>
          </a:prstGeom>
          <a:ln w="0">
            <a:noFill/>
          </a:ln>
        </p:spPr>
      </p:pic>
      <p:sp>
        <p:nvSpPr>
          <p:cNvPr id="646" name=""/>
          <p:cNvSpPr/>
          <p:nvPr/>
        </p:nvSpPr>
        <p:spPr>
          <a:xfrm>
            <a:off x="6553080" y="1828800"/>
            <a:ext cx="2362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DeleteQ i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De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us Stop Queu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228600" y="1981080"/>
            <a:ext cx="1246320" cy="868320"/>
            <a:chOff x="228600" y="1981080"/>
            <a:chExt cx="1246320" cy="868320"/>
          </a:xfrm>
        </p:grpSpPr>
        <p:sp>
          <p:nvSpPr>
            <p:cNvPr id="76" name=""/>
            <p:cNvSpPr/>
            <p:nvPr/>
          </p:nvSpPr>
          <p:spPr>
            <a:xfrm>
              <a:off x="228600" y="2133720"/>
              <a:ext cx="914400" cy="7038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Bus Sto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7" name="" descr=""/>
            <p:cNvPicPr/>
            <p:nvPr/>
          </p:nvPicPr>
          <p:blipFill>
            <a:blip r:embed="rId1"/>
            <a:stretch/>
          </p:blipFill>
          <p:spPr>
            <a:xfrm>
              <a:off x="685800" y="1981080"/>
              <a:ext cx="789120" cy="868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124080" y="2133720"/>
            <a:ext cx="457200" cy="7617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3886200" y="2438280"/>
            <a:ext cx="457200" cy="4273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4495680" y="213372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13372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371600" y="32767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19320" y="3352680"/>
            <a:ext cx="91440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0988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3048120"/>
            <a:ext cx="9144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4832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914400" y="3429000"/>
            <a:ext cx="1063800" cy="8222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2133720" y="1752480"/>
            <a:ext cx="74268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us Stop Queu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228600" y="1981080"/>
            <a:ext cx="1246320" cy="868320"/>
            <a:chOff x="228600" y="1981080"/>
            <a:chExt cx="1246320" cy="868320"/>
          </a:xfrm>
        </p:grpSpPr>
        <p:sp>
          <p:nvSpPr>
            <p:cNvPr id="91" name=""/>
            <p:cNvSpPr/>
            <p:nvPr/>
          </p:nvSpPr>
          <p:spPr>
            <a:xfrm>
              <a:off x="228600" y="2133720"/>
              <a:ext cx="914400" cy="7038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Bus Sto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2" name="" descr=""/>
            <p:cNvPicPr/>
            <p:nvPr/>
          </p:nvPicPr>
          <p:blipFill>
            <a:blip r:embed="rId1"/>
            <a:stretch/>
          </p:blipFill>
          <p:spPr>
            <a:xfrm>
              <a:off x="685800" y="1981080"/>
              <a:ext cx="789120" cy="868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124080" y="2133720"/>
            <a:ext cx="457200" cy="7617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3886200" y="2438280"/>
            <a:ext cx="457200" cy="4273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4495680" y="213372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04812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32767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19320" y="3352680"/>
            <a:ext cx="91440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64832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914400" y="3429000"/>
            <a:ext cx="1063800" cy="82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us Stop Queu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28600" y="1981080"/>
            <a:ext cx="1246320" cy="868320"/>
            <a:chOff x="228600" y="1981080"/>
            <a:chExt cx="1246320" cy="868320"/>
          </a:xfrm>
        </p:grpSpPr>
        <p:sp>
          <p:nvSpPr>
            <p:cNvPr id="103" name=""/>
            <p:cNvSpPr/>
            <p:nvPr/>
          </p:nvSpPr>
          <p:spPr>
            <a:xfrm>
              <a:off x="228600" y="2133720"/>
              <a:ext cx="914400" cy="7038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Bus Sto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4" name="" descr=""/>
            <p:cNvPicPr/>
            <p:nvPr/>
          </p:nvPicPr>
          <p:blipFill>
            <a:blip r:embed="rId1"/>
            <a:stretch/>
          </p:blipFill>
          <p:spPr>
            <a:xfrm>
              <a:off x="685800" y="1981080"/>
              <a:ext cx="789120" cy="868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124080" y="2133720"/>
            <a:ext cx="457200" cy="7617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3886200" y="2438280"/>
            <a:ext cx="457200" cy="4273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4495680" y="213372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04812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32767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19320" y="3352680"/>
            <a:ext cx="91440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8640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914400" y="3429000"/>
            <a:ext cx="1063800" cy="8222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5334120" y="1981080"/>
            <a:ext cx="879480" cy="89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Red (Queue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FIFO (First In First Ou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rvi element koji se dodaje u strukturu je i prvi element koji napušta struktu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Operacije sa redom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70866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FullQ … vr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rue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ko je red p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EmptyQ …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vrać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rue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ko je red praz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Q …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odaje element na kraj reda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r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 (često se naziva i Enqueu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teQ …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klanja i vraća element sa početka reda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nt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 (često se naziva i Dequeu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238880" y="1219320"/>
            <a:ext cx="147636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C++ STL implemenatcija red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ol empty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Vrać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rue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ako je red prazan 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lse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u suprotn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&amp; front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Vrać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ferenc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u na vrijednost sa front-a nepraznog re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id pop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Uklanja eleme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nt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-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epraznog red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id push(const T&amp; fo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Umeć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ument foo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na kraj reda (rear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_type size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Vraća ukupan broj elemena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u red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Goran Šuković</cp:lastModifiedBy>
  <cp:lastPrinted>2000-03-30T20:56:41Z</cp:lastPrinted>
  <dcterms:modified xsi:type="dcterms:W3CDTF">2011-02-07T19:56:27Z</dcterms:modified>
  <cp:revision>282</cp:revision>
  <dc:subject/>
  <dc:title>Data Representation Methods</dc:title>
</cp:coreProperties>
</file>